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14.wmf" ContentType="image/x-wmf"/>
  <Override PartName="/ppt/media/image1.jpeg" ContentType="image/jpeg"/>
  <Override PartName="/ppt/media/image2.jpeg" ContentType="image/jpeg"/>
  <Override PartName="/ppt/media/image15.jpeg" ContentType="image/jpeg"/>
  <Override PartName="/ppt/media/image3.wmf" ContentType="image/x-wmf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8.wmf" ContentType="image/x-wmf"/>
  <Override PartName="/ppt/media/image10.jpeg" ContentType="image/jpeg"/>
  <Override PartName="/ppt/media/image5.png" ContentType="image/png"/>
  <Override PartName="/ppt/media/image13.wmf" ContentType="image/x-wmf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C6209-28C8-4760-A484-0A7F9537C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91DED-3256-4A07-BAC6-7FC79D792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68AEC-0DBA-407A-B87D-DD64EBDA4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BC27F-4B77-4797-BBA9-7A8C14B83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89907-B41B-4A07-87B5-46F5FB8CB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19CB2-1F2A-4D17-A4D2-7A418F402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F2B8C-9923-4C13-B5D1-CC772EF61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735BC-95DD-4CEA-806B-BA059F4D7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7BB88-309A-4D61-8027-BCEF669CE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C76A0-9696-488A-9CF6-32535B157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2024A-2059-49B2-A423-DF607E616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17A9A-E44F-4F48-B22D-E544C9CC2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03683-84F5-4CBE-B074-CBD382F72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E17B1-C33B-47EA-A9D9-0D3F69F0E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C11E1-DD39-4121-901E-8F0C48302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D3D11-6A05-438D-9610-15E10A82F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83EB4-F175-441F-A686-B9EDFDD13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CBAE1-51A8-490A-B1F2-D9EC0D38A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0C4BA-DD1E-46C5-AC69-3AF6313D7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2F4DA-BB24-423C-A0CA-C7B9D57D2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D6008-ECD7-49B5-8F5A-91BECCB3F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15565-C276-43BA-9091-F0617F44E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66E35-0199-4E5C-A983-5437B5D27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C20CC-CC22-43D4-801A-D55123DAC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A91E5-DCE9-4640-8822-85CA58BA23E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C14CF-6C1B-4037-90F8-599B15E1FFF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523880" y="2951280"/>
            <a:ext cx="609624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 Black"/>
              </a:rPr>
              <a:t>Dana Rutkowski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 Black"/>
              <a:ea typeface="Arial Black"/>
            </a:endParaRPr>
          </a:p>
        </p:txBody>
      </p:sp>
    </p:spTree>
  </p:cSld>
  <p:transition spd="slow" advTm="3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124080" y="609480"/>
            <a:ext cx="2819520" cy="9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ancu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3057480" cy="22842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029200" y="3505320"/>
            <a:ext cx="3276720" cy="24476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685800" y="4724280"/>
            <a:ext cx="3200400" cy="6764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 rot="19918800">
            <a:off x="5562720" y="1904760"/>
            <a:ext cx="2590560" cy="5475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905120" y="304920"/>
            <a:ext cx="552456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irls' Vacatio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3591000" cy="26827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5334120" y="2133720"/>
            <a:ext cx="3581280" cy="26748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228600" y="1371600"/>
            <a:ext cx="1209600" cy="12096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066680" y="5334120"/>
            <a:ext cx="746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Katie Romanoski, Jen Malukas, Michelle O’Conell, and mysel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7848720" y="228600"/>
            <a:ext cx="1057320" cy="10573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8086680" y="5800680"/>
            <a:ext cx="1057320" cy="10573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4114800" y="4191120"/>
            <a:ext cx="1057320" cy="10573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3962160" cy="2959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572000" y="1792440"/>
            <a:ext cx="3971880" cy="29685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 rot="20437800">
            <a:off x="304920" y="5146560"/>
            <a:ext cx="931680" cy="17114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2286000" y="457200"/>
            <a:ext cx="47242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enior Frog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 rot="1299600">
            <a:off x="7848720" y="5181480"/>
            <a:ext cx="912600" cy="16765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2209680" y="457200"/>
            <a:ext cx="499140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oCo Bongo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124080" y="4038480"/>
            <a:ext cx="3505320" cy="26290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2209680" y="1447920"/>
            <a:ext cx="5257800" cy="2373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 rot="20324400">
            <a:off x="990720" y="4190760"/>
            <a:ext cx="1439640" cy="11350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 rot="2104800">
            <a:off x="7086600" y="4343400"/>
            <a:ext cx="1371600" cy="108108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657600" y="2514600"/>
            <a:ext cx="2158920" cy="29084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 rot="1217400">
            <a:off x="6705360" y="3809880"/>
            <a:ext cx="1616040" cy="19494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2819520" y="457200"/>
            <a:ext cx="396216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allowee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 rot="20344200">
            <a:off x="304560" y="1752480"/>
            <a:ext cx="2971800" cy="18907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666880" y="2057400"/>
            <a:ext cx="4572000" cy="34164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3124080" y="533520"/>
            <a:ext cx="342900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eekend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5" name=""/>
          <p:cNvSpPr/>
          <p:nvPr/>
        </p:nvSpPr>
        <p:spPr>
          <a:xfrm rot="19097400">
            <a:off x="783360" y="25855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T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rot="2107200">
            <a:off x="837000" y="350496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Chu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20260800">
            <a:off x="914760" y="44953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Mysel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6T00:07:33Z</dcterms:created>
  <dc:creator> </dc:creator>
  <dc:description/>
  <dc:language>en-US</dc:language>
  <cp:lastModifiedBy>drutkowski</cp:lastModifiedBy>
  <dcterms:modified xsi:type="dcterms:W3CDTF">2007-12-03T22:08:41Z</dcterms:modified>
  <cp:revision>7</cp:revision>
  <dc:subject/>
  <dc:title>Slide 1</dc:title>
</cp:coreProperties>
</file>